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29.wmf" ContentType="image/x-wmf"/>
  <Override PartName="/ppt/media/image1.png" ContentType="image/png"/>
  <Override PartName="/ppt/media/image31.png" ContentType="image/png"/>
  <Override PartName="/ppt/media/image19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24.png" ContentType="image/png"/>
  <Override PartName="/ppt/media/image2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2.wmf" ContentType="image/x-wmf"/>
  <Override PartName="/ppt/media/image34.wmf" ContentType="image/x-wmf"/>
  <Override PartName="/ppt/media/image40.png" ContentType="image/png"/>
  <Override PartName="/ppt/media/image43.wmf" ContentType="image/x-wmf"/>
  <Override PartName="/ppt/media/image44.png" ContentType="image/png"/>
  <Override PartName="/ppt/media/image46.png" ContentType="image/png"/>
  <Override PartName="/ppt/media/image35.wmf" ContentType="image/x-wmf"/>
  <Override PartName="/ppt/media/image36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wmf" ContentType="image/x-wmf"/>
  <Override PartName="/ppt/media/image45.gif" ContentType="image/gif"/>
  <Override PartName="/ppt/media/image52.wmf" ContentType="image/x-wmf"/>
  <Override PartName="/ppt/media/image15.wmf" ContentType="image/x-wmf"/>
  <Override PartName="/ppt/media/image53.png" ContentType="image/png"/>
  <Override PartName="/ppt/media/image42.wmf" ContentType="image/x-wmf"/>
  <Override PartName="/ppt/media/image55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7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195F-8016-4680-B88E-67577FE33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09A5-102D-4124-9AEC-FC0168FC0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ees can brainstorm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7CC-CFEA-4929-8CE4-9C396543F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F5B-F29E-4406-B81D-A170A6E8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5DD-5D14-4DBB-BBBD-70D2BC6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46D-37AC-4766-AEA7-3F0E4E11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8FF-AD49-41F8-A1E6-B8DEDFD1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145-024C-414A-B132-C4DACC49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E931-5011-4299-AB01-898B3E96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B23-DF3D-4951-874E-46D5E81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85B8-52D9-4325-91DF-89F7CDD4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8334-72C4-418C-8DB0-DDEDEC63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9BDD-55B5-4986-A9AD-528AFD8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C350-CC9D-4C35-9B38-5AE059E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371-0F26-4CA3-861F-52201D4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E439-9455-4A82-82B0-7A3D932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A60-FAC8-4AE6-AE80-59EE595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0E8C-B1E7-4B4D-A38D-AA6417A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4919-AF00-43F6-9998-78FB85E6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9679-DCBB-4D4B-AB49-5B29479E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94AA-FD96-4109-8111-71E9651A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5337-6903-405A-AEEE-D33BD5F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2C6D-65AB-479E-BE33-E08D1FE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72FD-DE9A-4685-830F-7FE60D6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09C4-97EF-44EF-AAC9-224DE4F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064-BCEC-48E3-855C-AF8955E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502B-839C-4790-9788-AA3AC72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0721-C57C-4ECF-BB42-6B5610A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F5A7-B2B3-4D80-A430-E36F150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C202-3E87-49AA-85E7-CD77B17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491D-6F29-4D97-A482-635F6BF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4954-166F-4AFE-BA0F-0F23F599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DC27-2470-4EF5-A74C-D3F824F0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24BF-8457-4879-8577-F12AEC4B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DA2F-097D-4AFF-B3D6-DB793F5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9F23-B1F8-412F-846D-235ADC00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D9F-F8F8-488B-A56A-885EB019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C946-49C4-4745-9892-FC83B40D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85A8-3640-4A8C-ADC2-4A5D7EA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7C0D-CB5A-41C9-9964-AA844CF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EEB1-EE51-485D-BA30-35C73B5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7817-74B8-4EE1-8E4F-F29241C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0B34-A696-4E83-B140-08D0FCF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26EB7-8EA9-4D21-BD7A-C619522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B88E-CF65-40DE-9A23-45DF34EE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D11A-5578-4BEA-9757-9D358555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91B8-57D2-48EA-9747-7E6DC63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B25-C53F-41C0-96FF-F54B8444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AEB24-1CA3-432B-BE50-F43AFA3A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5A87-AB4D-4620-9D98-BF543BA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D80B-9E58-43A6-82AE-9834AC9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2043-CA31-4478-A52D-7B5FAB1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3757-7809-43D1-B40C-C9B1F24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68C1-11A2-4515-B97C-0D3108D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50CB-7874-4149-B28A-9D9C628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7868-027C-42E6-9A52-B967569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2556-6F19-4583-8A23-0082C57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6D9D-6081-4E6D-AE16-C3E85FBF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C78-27B9-4912-9EC4-86B15151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269F-4E43-402D-B746-89F84B81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F0D3-A2B3-41A9-BF4C-5174E62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7944-FD81-4DC4-9104-7DE2A14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AA93-7DF2-4C0D-A116-D204EA0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6B5C-96C0-4B63-B07A-1481D79E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1C09-4053-4AB7-8717-EFC05E8F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2D31-B77A-4FCC-91AD-CEF1C95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B18A-D8F3-4E01-9A18-D26F7BD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7D04B-44B7-4913-93AA-CA88A7A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CA08-1FD1-441F-8A39-C2CD3AA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C87-9438-4A78-A4BB-56F52C8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0E6F3-E779-48C7-AA90-C95D4949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C486-91F6-4F82-B09B-3A43A5FE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9F57-494A-4792-8841-DBDCC159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D5414-D9BA-409F-9824-CCDB1622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51E8-B1D2-4358-98DE-BD6195E6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99A7-42AC-4904-B52E-20BBD27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7823-1E42-4B8F-848C-7E83A7D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A7101-1A46-4A42-9D5F-9E1D6783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5FAF-65D8-41F9-8B30-C7A434C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BA2B3-5100-4042-8749-FC9A96C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C53-400F-410A-815E-A650A9D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7FB8B-D8D0-472A-AA49-A2E5865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1A98F-8928-4CC8-8802-E53D2F3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70C00-5BB5-48D7-8868-8413CEE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4586-47D6-4B96-9C6C-869AD931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4A35-7171-4E41-B4C3-6A300040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A244-205D-40AA-BC51-807D970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604C7-AA73-439D-BFB0-EC3D038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66A1-FF95-4FD7-806F-BDC92E2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BC2B-9C6D-4F77-9F2F-7F7DDB2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3858-38E3-43D4-BF87-244B28D7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B9F-B180-49A3-869D-90A7470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814A-F6B0-47A9-B9D9-7218BBF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285C-033F-43B2-8E70-D541C7F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8E61-D375-4CEA-95FD-CEAD48C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1033-805F-4BA6-969B-EA3DD894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D050C-A1D2-4840-B6D6-15651A7F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05EAA-CF36-4AF1-A236-4B180ACD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E2BD2-F251-4C69-B422-BCC36C18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ED20-F45B-4BA9-810C-CEB374EF60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C36-DDDE-49CC-BD61-45969169F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0868-B9D9-4B95-A832-8549DBA6AF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B67F-5C6E-4DF5-8ED8-09380CBC6F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AF0F-A97A-4F8C-94F5-09024E9871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2C4-2E26-448F-9D8D-63E07CEEC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B80-194C-4E95-9ACC-F80BE35911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C50C-A8DF-455C-BF62-2758D33B5E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ryanthabibscience.wikispaces.com/Technology+Resources" TargetMode="External"/><Relationship Id="rId2" Type="http://schemas.openxmlformats.org/officeDocument/2006/relationships/hyperlink" Target="http://classes.lakeviewacademy.com/classes/Teacher%20Webpage%20Patino.htm" TargetMode="External"/><Relationship Id="rId3" Type="http://schemas.openxmlformats.org/officeDocument/2006/relationships/hyperlink" Target="http://lvalibrary.wikispaces.com/" TargetMode="External"/><Relationship Id="rId4" Type="http://schemas.openxmlformats.org/officeDocument/2006/relationships/hyperlink" Target="http://classes.lakeviewacademy.com/classes/Teacher%20Webpage%20Fowler.htm" TargetMode="External"/><Relationship Id="rId5" Type="http://schemas.openxmlformats.org/officeDocument/2006/relationships/hyperlink" Target="http://lakeviewacademysecondgrade.wikispaces.com/" TargetMode="External"/><Relationship Id="rId6" Type="http://schemas.openxmlformats.org/officeDocument/2006/relationships/hyperlink" Target="http://lakeviewacademysecondgrade.wikispaces.com/" TargetMode="External"/><Relationship Id="rId7" Type="http://schemas.openxmlformats.org/officeDocument/2006/relationships/hyperlink" Target="http://lakeviewacademysecondgrade.wikispaces.com/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keviewliterature.wikispaces.com/" TargetMode="External"/><Relationship Id="rId2" Type="http://schemas.openxmlformats.org/officeDocument/2006/relationships/hyperlink" Target="http://manelymath.wikispaces.com/" TargetMode="External"/><Relationship Id="rId3" Type="http://schemas.openxmlformats.org/officeDocument/2006/relationships/hyperlink" Target="http://marthalipold.wikispaces.com/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rtromp.wikispaces.com/" TargetMode="External"/><Relationship Id="rId2" Type="http://schemas.openxmlformats.org/officeDocument/2006/relationships/hyperlink" Target="https://mrslowesclass.wikispaces.com/" TargetMode="External"/><Relationship Id="rId3" Type="http://schemas.openxmlformats.org/officeDocument/2006/relationships/hyperlink" Target="http://educationalwikis.wikispaces.com/Examples+of+educational+wikis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achersfirst.com/content/wiki/wikiideas1.cfm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1000names.wikispaces.com/" TargetMode="External"/><Relationship Id="rId2" Type="http://schemas.openxmlformats.org/officeDocument/2006/relationships/hyperlink" Target="http://poetrycollaboration.wikispaces.com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imaryweb2.wikispaces.com/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37960" y="2077920"/>
            <a:ext cx="8723520" cy="909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Lakeview Academ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Summer Technology Instit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512640" y="-378000"/>
            <a:ext cx="7985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Scienc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Spanish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Library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Music &amp; Dr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Lakeview 2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nd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7"/>
              </a:rPr>
              <a:t> Grad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Documents and Settings\Melinda.Reinhardt\Local Settings\Temporary Internet Files\Content.IE5\HUYUTHNN\MC900299713[1].wmf"/>
          <p:cNvPicPr/>
          <p:nvPr/>
        </p:nvPicPr>
        <p:blipFill>
          <a:blip r:embed="rId9"/>
          <a:stretch/>
        </p:blipFill>
        <p:spPr>
          <a:xfrm rot="1247400">
            <a:off x="4625640" y="2744280"/>
            <a:ext cx="3727440" cy="35672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647712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coming in from Sp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Melinda.Reinhardt\Local Settings\Temporary Internet Files\Content.IE5\RYAW103F\MC900141055[1].wmf"/>
          <p:cNvPicPr/>
          <p:nvPr/>
        </p:nvPicPr>
        <p:blipFill>
          <a:blip r:embed="rId5"/>
          <a:stretch/>
        </p:blipFill>
        <p:spPr>
          <a:xfrm rot="20974800">
            <a:off x="4038120" y="228564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Mr. Tromp's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rs. Lowe's Cla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used wix.com to create a webpage within a wik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spaces Educational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Melinda.Reinhardt\Local Settings\Temporary Internet Files\Content.IE5\X058U0TE\MC900060335[1].wmf"/>
          <p:cNvPicPr/>
          <p:nvPr/>
        </p:nvPicPr>
        <p:blipFill>
          <a:blip r:embed="rId5"/>
          <a:stretch/>
        </p:blipFill>
        <p:spPr>
          <a:xfrm rot="20251800">
            <a:off x="5261040" y="4200480"/>
            <a:ext cx="3208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311040" y="1090440"/>
            <a:ext cx="852192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as for Collaboration in Lower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Teachers First Wiki Id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Documents and Settings\Melinda.Reinhardt\Local Settings\Temporary Internet Files\Content.IE5\TLI7FTPQ\MC900055194[1].wmf"/>
          <p:cNvPicPr/>
          <p:nvPr/>
        </p:nvPicPr>
        <p:blipFill>
          <a:blip r:embed="rId3"/>
          <a:stretch/>
        </p:blipFill>
        <p:spPr>
          <a:xfrm rot="20782800">
            <a:off x="5048280" y="3487320"/>
            <a:ext cx="36194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hat Does 1,000 Look Lik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Po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Melinda.Reinhardt\Local Settings\Temporary Internet Files\Content.IE5\HUYUTHNN\MC900335524[1].wmf"/>
          <p:cNvPicPr/>
          <p:nvPr/>
        </p:nvPicPr>
        <p:blipFill>
          <a:blip r:embed="rId4"/>
          <a:stretch/>
        </p:blipFill>
        <p:spPr>
          <a:xfrm>
            <a:off x="6095880" y="1371600"/>
            <a:ext cx="1819440" cy="1627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C:\Documents and Settings\Melinda.Reinhardt\Local Settings\Temporary Internet Files\Content.IE5\X058U0TE\MC900094829[1].wmf"/>
          <p:cNvPicPr/>
          <p:nvPr/>
        </p:nvPicPr>
        <p:blipFill>
          <a:blip r:embed="rId5"/>
          <a:stretch/>
        </p:blipFill>
        <p:spPr>
          <a:xfrm>
            <a:off x="3733920" y="3505320"/>
            <a:ext cx="17524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Elemenatory Blogs, Wikis, Podcasts, and mor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gger  - can use your Google login info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dBlo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Documents and Settings\Melinda.Reinhardt\Local Settings\Temporary Internet Files\Content.IE5\QOC0DUV5\MP900422533[1].jpg"/>
          <p:cNvPicPr/>
          <p:nvPr/>
        </p:nvPicPr>
        <p:blipFill>
          <a:blip r:embed="rId2"/>
          <a:stretch/>
        </p:blipFill>
        <p:spPr>
          <a:xfrm>
            <a:off x="32004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31840" y="347760"/>
            <a:ext cx="4498920" cy="3170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Documents and Settings\Melinda.Reinhardt\Local Settings\Temporary Internet Files\Content.IE5\QOC0DUV5\MC900304311[1].wmf"/>
          <p:cNvPicPr/>
          <p:nvPr/>
        </p:nvPicPr>
        <p:blipFill>
          <a:blip r:embed="rId2"/>
          <a:stretch/>
        </p:blipFill>
        <p:spPr>
          <a:xfrm>
            <a:off x="4952880" y="1676520"/>
            <a:ext cx="22892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Pro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ve Wikis (wikis you create and link 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 P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ucational  Online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Melinda.Reinhardt\Local Settings\Temporary Internet Files\Content.IE5\4B7TA4PV\MC900250659[1].wmf"/>
          <p:cNvPicPr/>
          <p:nvPr/>
        </p:nvPicPr>
        <p:blipFill>
          <a:blip r:embed="rId2"/>
          <a:stretch/>
        </p:blipFill>
        <p:spPr>
          <a:xfrm rot="20312400">
            <a:off x="6175080" y="4168800"/>
            <a:ext cx="2187360" cy="1770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C:\Documents and Settings\Melinda.Reinhardt\Local Settings\Temporary Internet Files\Content.IE5\2MM01B8X\MC900439909[1].wmf"/>
          <p:cNvPicPr/>
          <p:nvPr/>
        </p:nvPicPr>
        <p:blipFill>
          <a:blip r:embed="rId3"/>
          <a:stretch/>
        </p:blipFill>
        <p:spPr>
          <a:xfrm rot="1418400">
            <a:off x="6671880" y="6966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C:\Documents and Settings\Melinda.Reinhardt\Local Settings\Temporary Internet Files\Content.IE5\2MM01B8X\MC900197899[1].wmf"/>
          <p:cNvPicPr/>
          <p:nvPr/>
        </p:nvPicPr>
        <p:blipFill>
          <a:blip r:embed="rId4"/>
          <a:stretch/>
        </p:blipFill>
        <p:spPr>
          <a:xfrm>
            <a:off x="1905120" y="4495680"/>
            <a:ext cx="22730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C:\Documents and Settings\Melinda.Reinhardt\Local Settings\Temporary Internet Files\Content.IE5\X058U0TE\MM900046631[1].gif"/>
          <p:cNvPicPr/>
          <p:nvPr/>
        </p:nvPicPr>
        <p:blipFill>
          <a:blip r:embed="rId2"/>
          <a:stretch/>
        </p:blipFill>
        <p:spPr>
          <a:xfrm>
            <a:off x="3886200" y="1981080"/>
            <a:ext cx="36352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 resources, games, etc.  for students to practice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text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by chapter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rubrics/instru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pages for reading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ources  to help with spelling and voc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tures, slide shows, 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other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 up sheets for ev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C:\Documents and Settings\Melinda.Reinhardt\Local Settings\Temporary Internet Files\Content.IE5\80BOSIGC\MC900234430[1].wmf"/>
          <p:cNvPicPr/>
          <p:nvPr/>
        </p:nvPicPr>
        <p:blipFill>
          <a:blip r:embed="rId2"/>
          <a:stretch/>
        </p:blipFill>
        <p:spPr>
          <a:xfrm>
            <a:off x="2895480" y="1676520"/>
            <a:ext cx="37674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weet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rcRect l="24360" t="25129" r="23560" b="9746"/>
          <a:stretch/>
        </p:blipFill>
        <p:spPr>
          <a:xfrm>
            <a:off x="1752480" y="2209680"/>
            <a:ext cx="4748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C:\Documents and Settings\Melinda.Reinhardt\Local Settings\Temporary Internet Files\Content.IE5\ZFCO4CTT\MC900441523[1].wmf"/>
          <p:cNvPicPr/>
          <p:nvPr/>
        </p:nvPicPr>
        <p:blipFill>
          <a:blip r:embed="rId2"/>
          <a:stretch/>
        </p:blipFill>
        <p:spPr>
          <a:xfrm>
            <a:off x="2819520" y="1752480"/>
            <a:ext cx="3968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218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Webin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Help (How to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tudent accou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your own page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C:\Documents and Settings\Melinda.Reinhardt\Local Settings\Temporary Internet Files\Content.IE5\TLI7FTPQ\MC900366354[1].wmf"/>
          <p:cNvPicPr/>
          <p:nvPr/>
        </p:nvPicPr>
        <p:blipFill>
          <a:blip r:embed="rId2"/>
          <a:stretch/>
        </p:blipFill>
        <p:spPr>
          <a:xfrm rot="1349400">
            <a:off x="5772240" y="1199880"/>
            <a:ext cx="236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ttingtrickywith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ore on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who are home si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Documents and Settings\Melinda.Reinhardt\Local Settings\Temporary Internet Files\Content.IE5\2MM01B8X\MC900347477[1].wmf"/>
          <p:cNvPicPr/>
          <p:nvPr/>
        </p:nvPicPr>
        <p:blipFill>
          <a:blip r:embed="rId2"/>
          <a:stretch/>
        </p:blipFill>
        <p:spPr>
          <a:xfrm>
            <a:off x="3665520" y="2682720"/>
            <a:ext cx="3778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, relatives, and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Documents and Settings\Melinda.Reinhardt\Local Settings\Temporary Internet Files\Content.IE5\XL0O486A\MC900442094[1].wmf"/>
          <p:cNvPicPr/>
          <p:nvPr/>
        </p:nvPicPr>
        <p:blipFill>
          <a:blip r:embed="rId2"/>
          <a:stretch/>
        </p:blipFill>
        <p:spPr>
          <a:xfrm>
            <a:off x="2895480" y="2743200"/>
            <a:ext cx="4019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from all over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Documents and Settings\Melinda.Reinhardt\Local Settings\Temporary Internet Files\Content.IE5\X058U0TE\MC900088884[1].wmf"/>
          <p:cNvPicPr/>
          <p:nvPr/>
        </p:nvPicPr>
        <p:blipFill>
          <a:blip r:embed="rId2"/>
          <a:stretch/>
        </p:blipFill>
        <p:spPr>
          <a:xfrm>
            <a:off x="4572000" y="2971800"/>
            <a:ext cx="3638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of the fabulous things you are doing in your classroom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Documents and Settings\Melinda.Reinhardt\Local Settings\Temporary Internet Files\Content.IE5\3JCCAIOM\MC900187155[1].wmf"/>
          <p:cNvPicPr/>
          <p:nvPr/>
        </p:nvPicPr>
        <p:blipFill>
          <a:blip r:embed="rId2"/>
          <a:stretch/>
        </p:blipFill>
        <p:spPr>
          <a:xfrm rot="20349600">
            <a:off x="4509720" y="3006360"/>
            <a:ext cx="36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s parents and students one place to go for all of your classroom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C:\Documents and Settings\Melinda.Reinhardt\Local Settings\Temporary Internet Files\Content.IE5\PFLG1KZP\MC900030046[1].wmf"/>
          <p:cNvPicPr/>
          <p:nvPr/>
        </p:nvPicPr>
        <p:blipFill>
          <a:blip r:embed="rId2"/>
          <a:stretch/>
        </p:blipFill>
        <p:spPr>
          <a:xfrm>
            <a:off x="2514600" y="3048120"/>
            <a:ext cx="4471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es anything have to go home on paper anymo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Documents and Settings\Melinda.Reinhardt\Local Settings\Temporary Internet Files\Content.IE5\GXSHWFLP\MP900448676[1].jpg"/>
          <p:cNvPicPr/>
          <p:nvPr/>
        </p:nvPicPr>
        <p:blipFill>
          <a:blip r:embed="rId2"/>
          <a:stretch/>
        </p:blipFill>
        <p:spPr>
          <a:xfrm rot="20530800">
            <a:off x="3201480" y="2749680"/>
            <a:ext cx="3938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Melinda.Reinhardt\Local Settings\Temporary Internet Files\Content.IE5\GXSHWFLP\MP90040688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Melinda.Reinhardt\Local Settings\Temporary Internet Files\Content.IE5\PFLG1KZP\MC900121085[1].wmf"/>
          <p:cNvPicPr/>
          <p:nvPr/>
        </p:nvPicPr>
        <p:blipFill>
          <a:blip r:embed="rId3"/>
          <a:stretch/>
        </p:blipFill>
        <p:spPr>
          <a:xfrm>
            <a:off x="5562720" y="1447920"/>
            <a:ext cx="31082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9:27:10Z</dcterms:created>
  <dc:creator>Fac - Montgomery,Bruce</dc:creator>
  <dc:description/>
  <dc:language>en-US</dc:language>
  <cp:lastModifiedBy>Fac - Montgomery,Bruce</cp:lastModifiedBy>
  <dcterms:modified xsi:type="dcterms:W3CDTF">2010-07-25T22:18:10Z</dcterms:modified>
  <cp:revision>276</cp:revision>
  <dc:subject/>
  <dc:title>Building Your Classroom Wiki or Webpage</dc:title>
</cp:coreProperties>
</file>